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9871075" cy="6796088"/>
  <p:custShowLst>
    <p:custShow name="定期テスト対策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D74E-8238-44EF-9BF8-9B374E0B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342E-EBBB-4EF0-ACAC-B3EEEFFD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9A54-8F58-470B-87D3-760214D14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2047-08F9-4E64-9AEB-F43F1EDB4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E1D3-AA12-4DA4-9633-1FCA8924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67A7-C601-4A52-87DA-95BA1F0D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336D-AC3B-4C29-AE84-919734D8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D34B0-D6F3-4F3E-A270-0E06D9FB3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C428-0302-45A1-A77D-F56F190C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6935-2979-41EE-8BCD-A6021456F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BF4D4-0812-45FB-A041-52C2CB2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127-19FB-4903-932D-D95CC94D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D38BB-6C7B-4DD6-BE73-D139E49F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6E39-9354-425D-9D9C-0DBDC54D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ED61-C975-4BAB-A33B-DB4734C6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0ED3-9939-46BE-A364-D25ABEFAE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8080-37E5-4679-B70E-19B9227AF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61D2-1BFF-4518-9E88-D1C3EC64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BEA7-D29D-4B23-AD09-A7DC307B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6322E-F2A5-4B60-8BBE-7C45776D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745A9-9058-410B-8520-60B2B3DB8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41EB1-E203-4B4C-B42A-D7AD61F8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7EA1-82B7-4A3C-8C90-FA92045F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442DD-FA6F-4F70-9A89-1CBBE565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C36E1-A70E-4EF2-A81A-340BA3104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2C228-77E3-400C-BE80-9FCD432A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0601D-9D27-49CC-9B7C-06A866F7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5FE9C-B3B8-44D8-8DA8-15E79FBF6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4050-F7C7-4A96-A532-4A93E6967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B212-519F-4B36-8311-4C685155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AF29-70FC-4221-8C40-BDD6D094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49DC-8F28-4052-9694-9B2AFA19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6C46-E273-4DAD-A23F-62305D40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A096-46DC-4144-8E9A-A17359D5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F83-B101-44A3-9A0F-1FCBF701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3D85-0B42-4E8F-88F1-8EAB614E7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C31E-DD24-4884-8D33-7B20E2D22E33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44907-291A-4924-8948-5732385F0C96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2C0B-A166-4F45-894A-EFE945D372F5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50749-8205-4D55-A077-76C0939A771B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FB7E-3299-42E4-852D-B579D911AE82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13C2-9EA8-457B-93E7-F5512363DBE4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8000" y="2697120"/>
            <a:ext cx="711360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21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77560" y="3933720"/>
            <a:ext cx="67755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①基礎力定着テスト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②テンプレート活用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32" name="スライド番号プレースホルダー 4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F7AF-8B81-4B89-AC14-9BAD9E975656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CFE8-F74C-4F0B-B6C9-C28540CEF8FE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テキスト ボックス 6"/>
          <p:cNvSpPr/>
          <p:nvPr/>
        </p:nvSpPr>
        <p:spPr>
          <a:xfrm>
            <a:off x="90000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テキスト ボックス 7"/>
          <p:cNvSpPr/>
          <p:nvPr/>
        </p:nvSpPr>
        <p:spPr>
          <a:xfrm>
            <a:off x="1476360" y="105264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8"/>
          <p:cNvSpPr/>
          <p:nvPr/>
        </p:nvSpPr>
        <p:spPr>
          <a:xfrm>
            <a:off x="2122560" y="1052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テキスト ボックス 9"/>
          <p:cNvSpPr/>
          <p:nvPr/>
        </p:nvSpPr>
        <p:spPr>
          <a:xfrm>
            <a:off x="7020000" y="5400720"/>
            <a:ext cx="78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sword-slash6" descr=""/>
          <p:cNvPicPr/>
          <p:nvPr/>
        </p:nvPicPr>
        <p:blipFill>
          <a:blip r:embed="rId1"/>
          <a:stretch/>
        </p:blipFill>
        <p:spPr>
          <a:xfrm>
            <a:off x="8818560" y="6726240"/>
            <a:ext cx="46080" cy="46080"/>
          </a:xfrm>
          <a:prstGeom prst="rect">
            <a:avLst/>
          </a:prstGeom>
          <a:ln w="0">
            <a:noFill/>
          </a:ln>
        </p:spPr>
      </p:pic>
      <p:pic>
        <p:nvPicPr>
          <p:cNvPr id="178" name="図 11" descr=""/>
          <p:cNvPicPr/>
          <p:nvPr/>
        </p:nvPicPr>
        <p:blipFill>
          <a:blip r:embed="rId2"/>
          <a:stretch/>
        </p:blipFill>
        <p:spPr>
          <a:xfrm>
            <a:off x="1179360" y="2276640"/>
            <a:ext cx="6607440" cy="204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4402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CD63-BD6D-4598-91CA-FDF27590B14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テキスト ボックス 5"/>
          <p:cNvSpPr/>
          <p:nvPr/>
        </p:nvSpPr>
        <p:spPr>
          <a:xfrm>
            <a:off x="684360" y="1628640"/>
            <a:ext cx="784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夏休み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ネット予備校のスケジュー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英語応用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通常授業合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0: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: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日程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2,9,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内容：比較・関係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英語標準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高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通常授業合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0:00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1: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日程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/5,19,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内容：関係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夏期期間は上記単元しか学習しませんが、２学期以降継続すれば、通年カリキュラムの中で、改めて重要文法項目を学習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図 4" descr=""/>
          <p:cNvPicPr/>
          <p:nvPr/>
        </p:nvPicPr>
        <p:blipFill>
          <a:blip r:embed="rId1"/>
          <a:stretch/>
        </p:blipFill>
        <p:spPr>
          <a:xfrm>
            <a:off x="6800760" y="115920"/>
            <a:ext cx="2102040" cy="21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3641-7AAF-4D5E-98AE-B3A5033622B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547640" y="216000"/>
          <a:ext cx="6840720" cy="6538680"/>
        </p:xfrm>
        <a:graphic>
          <a:graphicData uri="http://schemas.openxmlformats.org/drawingml/2006/table">
            <a:tbl>
              <a:tblPr/>
              <a:tblGrid>
                <a:gridCol w="1103400"/>
                <a:gridCol w="1435320"/>
                <a:gridCol w="1433520"/>
                <a:gridCol w="1434960"/>
                <a:gridCol w="1433520"/>
              </a:tblGrid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1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7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44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  <p:sp>
        <p:nvSpPr>
          <p:cNvPr id="184" name="テキスト ボックス 3"/>
          <p:cNvSpPr/>
          <p:nvPr/>
        </p:nvSpPr>
        <p:spPr>
          <a:xfrm>
            <a:off x="186840" y="333360"/>
            <a:ext cx="4546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数学 　夏期講習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8A6-8419-4BBB-B005-08CA7505E32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547640" y="216000"/>
          <a:ext cx="6840720" cy="6538680"/>
        </p:xfrm>
        <a:graphic>
          <a:graphicData uri="http://schemas.openxmlformats.org/drawingml/2006/table">
            <a:tbl>
              <a:tblPr/>
              <a:tblGrid>
                <a:gridCol w="1103400"/>
                <a:gridCol w="1435320"/>
                <a:gridCol w="1433520"/>
                <a:gridCol w="1434960"/>
                <a:gridCol w="1433520"/>
              </a:tblGrid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1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7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44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  <p:sp>
        <p:nvSpPr>
          <p:cNvPr id="187" name="テキスト ボックス 3"/>
          <p:cNvSpPr/>
          <p:nvPr/>
        </p:nvSpPr>
        <p:spPr>
          <a:xfrm>
            <a:off x="186840" y="333360"/>
            <a:ext cx="4546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数学 　夏期講習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正方形/長方形 4"/>
          <p:cNvSpPr/>
          <p:nvPr/>
        </p:nvSpPr>
        <p:spPr>
          <a:xfrm>
            <a:off x="1370160" y="1844640"/>
            <a:ext cx="7299000" cy="50133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対象：高校１年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基礎向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１学期の復習からじっくり取り組みたい生徒向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導入説明と演習の時間がありますが、どちらかというと演習寄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講習後は、教室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を使って映像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C942-B092-4006-A398-37685FDC762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547640" y="216000"/>
          <a:ext cx="6840720" cy="6538680"/>
        </p:xfrm>
        <a:graphic>
          <a:graphicData uri="http://schemas.openxmlformats.org/drawingml/2006/table">
            <a:tbl>
              <a:tblPr/>
              <a:tblGrid>
                <a:gridCol w="1103400"/>
                <a:gridCol w="1435320"/>
                <a:gridCol w="1433520"/>
                <a:gridCol w="1434960"/>
                <a:gridCol w="1433520"/>
              </a:tblGrid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1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7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44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  <p:sp>
        <p:nvSpPr>
          <p:cNvPr id="191" name="テキスト ボックス 3"/>
          <p:cNvSpPr/>
          <p:nvPr/>
        </p:nvSpPr>
        <p:spPr>
          <a:xfrm>
            <a:off x="186840" y="333360"/>
            <a:ext cx="4546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数学 　夏期講習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正方形/長方形 4"/>
          <p:cNvSpPr/>
          <p:nvPr/>
        </p:nvSpPr>
        <p:spPr>
          <a:xfrm>
            <a:off x="1395360" y="216000"/>
            <a:ext cx="7299360" cy="151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5"/>
          <p:cNvSpPr/>
          <p:nvPr/>
        </p:nvSpPr>
        <p:spPr>
          <a:xfrm>
            <a:off x="1108080" y="3500280"/>
            <a:ext cx="7297560" cy="32544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対象：高校１～２年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標準向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入試でもよく出される関数単元の４日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解説と授業中にも演習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講習後は、教室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を使って映像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図 6" descr=""/>
          <p:cNvPicPr/>
          <p:nvPr/>
        </p:nvPicPr>
        <p:blipFill>
          <a:blip r:embed="rId1"/>
          <a:stretch/>
        </p:blipFill>
        <p:spPr>
          <a:xfrm>
            <a:off x="200160" y="4589640"/>
            <a:ext cx="210168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C978-DD9F-4E3A-A31F-2CE40878DA2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547640" y="216000"/>
          <a:ext cx="6840720" cy="6538680"/>
        </p:xfrm>
        <a:graphic>
          <a:graphicData uri="http://schemas.openxmlformats.org/drawingml/2006/table">
            <a:tbl>
              <a:tblPr/>
              <a:tblGrid>
                <a:gridCol w="1103400"/>
                <a:gridCol w="1435320"/>
                <a:gridCol w="1433520"/>
                <a:gridCol w="1434960"/>
                <a:gridCol w="1433520"/>
              </a:tblGrid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1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7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44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  <p:sp>
        <p:nvSpPr>
          <p:cNvPr id="197" name="テキスト ボックス 3"/>
          <p:cNvSpPr/>
          <p:nvPr/>
        </p:nvSpPr>
        <p:spPr>
          <a:xfrm>
            <a:off x="186840" y="333360"/>
            <a:ext cx="4546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数学 　夏期講習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正方形/長方形 4"/>
          <p:cNvSpPr/>
          <p:nvPr/>
        </p:nvSpPr>
        <p:spPr>
          <a:xfrm>
            <a:off x="1319040" y="20520"/>
            <a:ext cx="7297920" cy="34084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対象：高校１年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２学期の予習　新出事項の導入寄り＋プチ演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講習後は、教室で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ist</a:t>
            </a: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を使って映像学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正方形/長方形 5"/>
          <p:cNvSpPr/>
          <p:nvPr/>
        </p:nvSpPr>
        <p:spPr>
          <a:xfrm>
            <a:off x="1246320" y="5235480"/>
            <a:ext cx="7299360" cy="15130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304A-CB74-4295-BCD6-CAC76111BE66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547640" y="216000"/>
          <a:ext cx="6840720" cy="6538680"/>
        </p:xfrm>
        <a:graphic>
          <a:graphicData uri="http://schemas.openxmlformats.org/drawingml/2006/table">
            <a:tbl>
              <a:tblPr/>
              <a:tblGrid>
                <a:gridCol w="1103400"/>
                <a:gridCol w="1435320"/>
                <a:gridCol w="1433520"/>
                <a:gridCol w="1434960"/>
                <a:gridCol w="1433520"/>
              </a:tblGrid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1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7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整式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場合の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7/2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二次関数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8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19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確率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数学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「三角比」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167760"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764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日　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3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火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4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5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6/8/26(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金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80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時　間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  <a:tr h="3762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科目コー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センターⅠ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対策</a:t>
                      </a:r>
                      <a:br>
                        <a:rPr sz="1100"/>
                      </a:b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実践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2"/>
                    </a:solidFill>
                  </a:tcPr>
                </a:tc>
              </a:tr>
              <a:tr h="374400"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対　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26db0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  <a:tc>
                  <a:txBody>
                    <a:bodyPr lIns="62280" rIns="622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校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～３年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2280" marR="62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4e4"/>
                    </a:solidFill>
                  </a:tcPr>
                </a:tc>
              </a:tr>
            </a:tbl>
          </a:graphicData>
        </a:graphic>
      </p:graphicFrame>
      <p:sp>
        <p:nvSpPr>
          <p:cNvPr id="202" name="テキスト ボックス 3"/>
          <p:cNvSpPr/>
          <p:nvPr/>
        </p:nvSpPr>
        <p:spPr>
          <a:xfrm>
            <a:off x="186840" y="333360"/>
            <a:ext cx="45468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数学 　夏期講習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正方形/長方形 4"/>
          <p:cNvSpPr/>
          <p:nvPr/>
        </p:nvSpPr>
        <p:spPr>
          <a:xfrm>
            <a:off x="1403280" y="214200"/>
            <a:ext cx="7299360" cy="494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対象：高校２～３年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センター試験過去問・類似対策　受験向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0000"/>
                </a:solidFill>
                <a:latin typeface="Arial"/>
              </a:rPr>
              <a:t>事前に問題を解いてきてもらい、その解説を授業を通じて行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DB09F-632B-4C4A-8C67-8798E5CBB8E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テキスト ボックス 5"/>
          <p:cNvSpPr/>
          <p:nvPr/>
        </p:nvSpPr>
        <p:spPr>
          <a:xfrm>
            <a:off x="755640" y="126828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夏期講習終了後も大丈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□数学　ＩＡ　コース　９月新規開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対象：高１～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期間：平成２８年９月～平成２９年２月ま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この後、平成２９年３月より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Ⅱ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Ｂの演習に入りますので、継続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　　　　　促しやすい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内容：問題演習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　　実施：水曜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詳細カリキュラム・開始日について後日ご案内いた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正方形/長方形 6"/>
          <p:cNvSpPr/>
          <p:nvPr/>
        </p:nvSpPr>
        <p:spPr>
          <a:xfrm>
            <a:off x="755640" y="1917720"/>
            <a:ext cx="7947000" cy="26636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図 5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102040" cy="213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084-81E7-4B1C-8EBE-A398BC0133F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1"/>
          <p:cNvSpPr/>
          <p:nvPr/>
        </p:nvSpPr>
        <p:spPr>
          <a:xfrm>
            <a:off x="539640" y="1628640"/>
            <a:ext cx="770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ンプレート機能とは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習課題を事前に登録しておくことで、生徒に出す指示の質が統一され、先生の手間が省ける機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事前に自分で登録するの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から１０まですべてを自分で登録することができますが、それには膨大な時間がかかると思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本部の運営方法を「システムアシストテンプレート」という形にして、全教室に公開しているので、そちらを使っていただいても結構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またカスタマイズも自由にで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6C50-0780-4092-9EBC-E55EF694F8E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1"/>
          <p:cNvSpPr/>
          <p:nvPr/>
        </p:nvSpPr>
        <p:spPr>
          <a:xfrm>
            <a:off x="539640" y="26028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習管理に重点を置いたシステムを作った経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テキスト ボックス 1"/>
          <p:cNvSpPr/>
          <p:nvPr/>
        </p:nvSpPr>
        <p:spPr>
          <a:xfrm>
            <a:off x="32400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集団レッスン時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テキスト ボックス 1"/>
          <p:cNvSpPr/>
          <p:nvPr/>
        </p:nvSpPr>
        <p:spPr>
          <a:xfrm>
            <a:off x="3203640" y="119700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いかに生徒にわかりやすく教えるか、生徒を引っ張っていける教室を作るかに研究没頭した日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（アルバイト講師の育成、授業スキルの向上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テキスト ボックス 1"/>
          <p:cNvSpPr/>
          <p:nvPr/>
        </p:nvSpPr>
        <p:spPr>
          <a:xfrm>
            <a:off x="324000" y="278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：２個別指導時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テキスト ボックス 1"/>
          <p:cNvSpPr/>
          <p:nvPr/>
        </p:nvSpPr>
        <p:spPr>
          <a:xfrm>
            <a:off x="3203640" y="2790720"/>
            <a:ext cx="50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講師の確保、育成の日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授業後に積み重なるぶ厚い授業報告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一日５枚程度から３０枚程度に一気にア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テキスト ボックス 1"/>
          <p:cNvSpPr/>
          <p:nvPr/>
        </p:nvSpPr>
        <p:spPr>
          <a:xfrm>
            <a:off x="789120" y="3817800"/>
            <a:ext cx="74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報告書に目を通す時間が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どこをやっているか、どれだけできているか、宿題は適切かわから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ハンコだけ押す。⇒講師まか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1"/>
          <p:cNvSpPr/>
          <p:nvPr/>
        </p:nvSpPr>
        <p:spPr>
          <a:xfrm>
            <a:off x="574560" y="5087880"/>
            <a:ext cx="8096400" cy="916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感じたこと・・・講師任せでも運営が成り立ってしま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運営できてしまう⇒報告書に目を通さない⇒生徒との関係も希薄に⇒退塾増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生徒数減少という痛い思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3E32-4573-4AA2-AD64-6607380D2E05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"/>
          <p:cNvSpPr/>
          <p:nvPr/>
        </p:nvSpPr>
        <p:spPr>
          <a:xfrm>
            <a:off x="539640" y="26028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習管理に重点を置いたシステムを作った経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"/>
          <p:cNvSpPr/>
          <p:nvPr/>
        </p:nvSpPr>
        <p:spPr>
          <a:xfrm>
            <a:off x="324000" y="119700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発時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1"/>
          <p:cNvSpPr/>
          <p:nvPr/>
        </p:nvSpPr>
        <p:spPr>
          <a:xfrm>
            <a:off x="3203640" y="1197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映像収録の日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映像は生徒に受け入れられるのか？不安な日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1"/>
          <p:cNvSpPr/>
          <p:nvPr/>
        </p:nvSpPr>
        <p:spPr>
          <a:xfrm>
            <a:off x="1619280" y="2124000"/>
            <a:ext cx="56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映像をみて、黙々と学習する姿をみて、いけると確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1"/>
          <p:cNvSpPr/>
          <p:nvPr/>
        </p:nvSpPr>
        <p:spPr>
          <a:xfrm>
            <a:off x="917640" y="2795760"/>
            <a:ext cx="70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「なにか物足りない・・・。成績が上がる気がしない」という退塾希望理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テキスト ボックス 1"/>
          <p:cNvSpPr/>
          <p:nvPr/>
        </p:nvSpPr>
        <p:spPr>
          <a:xfrm>
            <a:off x="755640" y="3597120"/>
            <a:ext cx="7454880" cy="1191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感じたこ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映像任せでも、教室は運営できてしまうが、生徒管理をしないと、潜在的な不満はたまっていく人もいると実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生徒との関わりをどこでもつかを模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テキスト ボックス 1"/>
          <p:cNvSpPr/>
          <p:nvPr/>
        </p:nvSpPr>
        <p:spPr>
          <a:xfrm>
            <a:off x="792000" y="5097600"/>
            <a:ext cx="74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週に１度の学習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4CF7C-0011-445B-87A2-38730E1BBB0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1"/>
          <p:cNvSpPr/>
          <p:nvPr/>
        </p:nvSpPr>
        <p:spPr>
          <a:xfrm>
            <a:off x="539640" y="260280"/>
            <a:ext cx="770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習管理に重点を置いたシステムを作った経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テキスト ボックス 1"/>
          <p:cNvSpPr/>
          <p:nvPr/>
        </p:nvSpPr>
        <p:spPr>
          <a:xfrm>
            <a:off x="789120" y="620640"/>
            <a:ext cx="745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学びホーダイの開始　週に１度の学習管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生徒は到達点が見えなく、なんとなくメリハリのない空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１コマあたりの生徒数も増えてひっちゃかめっちゃか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テキスト ボックス 1"/>
          <p:cNvSpPr/>
          <p:nvPr/>
        </p:nvSpPr>
        <p:spPr>
          <a:xfrm>
            <a:off x="789120" y="1913040"/>
            <a:ext cx="74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生徒の数が増えても全員落ち度なく管理する方法とし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毎日生徒の学習課題を出すことに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テキスト ボックス 1"/>
          <p:cNvSpPr/>
          <p:nvPr/>
        </p:nvSpPr>
        <p:spPr>
          <a:xfrm>
            <a:off x="826920" y="308124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手間の増加。夜遅くまでお弁当箱づく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テキスト ボックス 1"/>
          <p:cNvSpPr/>
          <p:nvPr/>
        </p:nvSpPr>
        <p:spPr>
          <a:xfrm>
            <a:off x="826920" y="4006800"/>
            <a:ext cx="74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管理して気づく「映像視聴後の報告」と「実際の理解度の乖離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小テスト導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1"/>
          <p:cNvSpPr/>
          <p:nvPr/>
        </p:nvSpPr>
        <p:spPr>
          <a:xfrm>
            <a:off x="826920" y="4799160"/>
            <a:ext cx="745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科目別・単元別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p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よく見ると、前から進めただけでは、定着の遠回りに。いかに多くの生徒に、抜けなく定着させられるかを模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1"/>
          <p:cNvSpPr/>
          <p:nvPr/>
        </p:nvSpPr>
        <p:spPr>
          <a:xfrm>
            <a:off x="826920" y="5818320"/>
            <a:ext cx="745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現在の　例題⇒基本問題⇒確認テストの確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お弁当箱づくりの軽減化に「テンプレート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弁当箱作成にあたっ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テキスト ボックス 10"/>
          <p:cNvSpPr/>
          <p:nvPr/>
        </p:nvSpPr>
        <p:spPr>
          <a:xfrm>
            <a:off x="4427640" y="1484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テキスト ボックス 4"/>
          <p:cNvSpPr/>
          <p:nvPr/>
        </p:nvSpPr>
        <p:spPr>
          <a:xfrm>
            <a:off x="395280" y="1444680"/>
            <a:ext cx="849780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生徒の進捗状況を毎回把握できて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弁当箱を毎回作成することで解決でき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映像授業を使った個別指導ってどういうこ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⇒</a:t>
            </a: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毎回、生徒がログインするとその日の課題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出ている。一人ひとりの状態を把握しながら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できるだけ食べ残しがないように作ってい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（問合せ時のセールストークの一つ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BA59-C588-40C6-A84B-0371148F830F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正方形/長方形 5" descr=""/>
          <p:cNvPicPr/>
          <p:nvPr/>
        </p:nvPicPr>
        <p:blipFill>
          <a:blip r:embed="rId1"/>
          <a:stretch/>
        </p:blipFill>
        <p:spPr>
          <a:xfrm>
            <a:off x="828720" y="2792520"/>
            <a:ext cx="74246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2B7E-C8DC-405F-AB00-8A4E4E1A2DA4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テキスト ボックス 1"/>
          <p:cNvSpPr/>
          <p:nvPr/>
        </p:nvSpPr>
        <p:spPr>
          <a:xfrm>
            <a:off x="539640" y="981000"/>
            <a:ext cx="77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春の集客で出遅れてしまっ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夏の集客で挽回した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・塾の評判をもっと高めた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という先生方！ぜひ夏期講習の前に次のことをお試し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テキスト ボックス 4"/>
          <p:cNvSpPr/>
          <p:nvPr/>
        </p:nvSpPr>
        <p:spPr>
          <a:xfrm>
            <a:off x="395280" y="3068640"/>
            <a:ext cx="7704000" cy="9471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成２６～２８年３月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卒業した高校生への夏期講習の案内ＤＭの送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スライド番号プレースホルダー 2"/>
          <p:cNvSpPr/>
          <p:nvPr/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C87B1-C163-477C-9B69-FF7092CAF938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1"/>
          <p:cNvSpPr/>
          <p:nvPr/>
        </p:nvSpPr>
        <p:spPr>
          <a:xfrm>
            <a:off x="755640" y="765000"/>
            <a:ext cx="784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高校生指導不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・質問されたらどうしよ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・大学がわからないので受験指導ができ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・学校の進度がバラバラすぎて、進め方がわから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◆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高校生が持続しな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・忙しさにかまけて、気づいたらテスト前しか来な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　・高２～３あたりになると予備校に逃げられてしま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3"/>
          <p:cNvSpPr/>
          <p:nvPr/>
        </p:nvSpPr>
        <p:spPr>
          <a:xfrm>
            <a:off x="752400" y="2133720"/>
            <a:ext cx="7702560" cy="5205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丈夫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部の先生がすべて対応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テキスト ボックス 4"/>
          <p:cNvSpPr/>
          <p:nvPr/>
        </p:nvSpPr>
        <p:spPr>
          <a:xfrm>
            <a:off x="755640" y="4797360"/>
            <a:ext cx="7704000" cy="94716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大丈夫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部の先生が定期的に来るように指導し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自分の塾で対応可能な科目については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s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本部の先生が繋げま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S A</cp:lastModifiedBy>
  <cp:lastPrinted>2016-05-13T05:18:53Z</cp:lastPrinted>
  <dcterms:modified xsi:type="dcterms:W3CDTF">2016-05-15T22:52:52Z</dcterms:modified>
  <cp:revision>573</cp:revision>
  <dc:subject/>
  <dc:title>第１回　Assist勉強会</dc:title>
</cp:coreProperties>
</file>